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94F3-D726-47A9-B460-CDE80E093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9FAA-207C-4DFB-A542-ADE9A9507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9188-3DCD-480B-A42A-5BDCBA4D6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3FF2-23F9-4537-A0B0-20037414D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1D49-7C37-4B07-9EF1-F053228E0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DE13-AE3E-492F-BB52-D50956418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447B-B5EE-4485-9CE1-60F77BDA6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D925-C547-4FCB-AAE1-D1E3B0FF6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3D77-9EE8-44A9-8ADA-0BEF6D42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E842-2046-465F-826A-9704BE08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9F9F-E501-4A85-B5F2-F60228506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EA15-83E3-46F5-ACAA-49FDB57A0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A91C-7751-42E2-9509-8409B532E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9DB8-805D-4368-8374-A58E51642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EA46-0607-4C33-8160-66F1132C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C0EF-D037-4812-B8E3-A3657E177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C7FF-58F7-4EBC-A291-9395EFD9F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1CD1-DC49-4414-B8F8-C188891E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2812-B36E-41FB-BB07-C59EB2933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AFE-4017-496A-B929-C447D79D2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5135-463B-4B53-9698-0EB19FE05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0B9E-F9E2-43B5-A10B-A12E64FB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A6A9-0822-4EE0-848F-FA10CEEB7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B06-FBA8-4F3B-B8CB-F6DAC119B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9CA5-03E5-4E3A-8E4E-8BBA796CA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45C9-BFF1-420C-A5E5-7529397E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8306-4BCB-468B-BA00-C3202A9FF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9CF-B0AA-4202-A9D2-E0DB98CAC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CD1A-1C93-493E-AC78-FA7B1E609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AA8D-FE75-4E2C-A115-F0A2B639A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2E4C-8EE0-414F-B3C4-EC16C0013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8F12-EEE5-419E-97BB-519ADF97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49A3-F4DB-4975-AC0B-994A5F46C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11E1-9A88-4C9E-B4F9-8DF89D015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0197-DC6A-4EFC-94F6-FE470B34D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BBB9-CC51-46E3-8AD0-4FBFDDCAC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544E-2757-4CA7-8281-546BFF0B4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D5FB-8982-4E28-99D6-91DEDF0CA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B4EB-9A0D-465E-99E0-1E609C0F5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0BC1-4123-449A-B644-D0D3DC498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EEBC-287F-4C81-9EEF-F31ED6D7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51DC-3E5F-47B5-9018-2220D5230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2F3A-17F2-46F9-BB9C-E729CFC3A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AD70-1A3A-4DA8-BEF9-585EFA01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A65A-4560-4683-8F51-38DE9C808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0735-0E3A-4F1F-8C67-D16FBF810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5AEE-436D-4CB7-90CC-A1CFC46F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2014-7519-4D03-B171-7FCB93A08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6836-C35A-415A-B53E-BF8153781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2AA4-4D30-494B-853A-66339493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6ED7-4121-4DF6-B35E-8AAF52926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3C34-5941-4A47-8045-2817E6C9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E97-C9EA-481F-A176-0D55DC37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713-5075-43C2-986D-9EF4309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78A-3E18-4FAA-ACE0-04BF6724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B56-602C-4F38-91D6-1967A67B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B8F-E13E-479B-ABDE-BED591B1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0B3-ECF4-4BA9-B1A4-D3EFA4B3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937-C08E-42F2-ABB3-F1460F8E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495-631B-459C-9808-1FD608DE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0A3-4EBB-4235-8507-A5486A35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B71-B3C7-401E-9546-EAB2385B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93A-F1E6-43F7-AD0A-E53D2A2A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8BA-EB55-43DB-9BD1-A223BB07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1E59-339C-4ACC-BF51-2AB2CC74B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Traduis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en franç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Traduis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en angl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57"/>
          <p:cNvSpPr/>
          <p:nvPr/>
        </p:nvSpPr>
        <p:spPr>
          <a:xfrm>
            <a:off x="137160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s (manger) la pizz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36"/>
          <p:cNvSpPr/>
          <p:nvPr/>
        </p:nvSpPr>
        <p:spPr>
          <a:xfrm>
            <a:off x="1371600" y="1371600"/>
            <a:ext cx="6400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s mangeons la piz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(vendr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v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(descendr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desc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us (rendr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057"/>
          <p:cNvSpPr/>
          <p:nvPr/>
        </p:nvSpPr>
        <p:spPr>
          <a:xfrm>
            <a:off x="1066680" y="12952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s rend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es (attend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les att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 (rega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us (perd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us perde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(fin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f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(chois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cho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le (rougi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le roug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s (</a:t>
            </a: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bâti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s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tis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 regar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us (p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us p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âlis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establi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e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établ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play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jo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do wai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us attend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study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s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étudi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(ai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trav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us voyage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nour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ourrishes /is nourrishing /does nourr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J’éc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listen / I am liste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do lis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us descend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o down. / You do go down.  You are going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garç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liss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ys go pale. / The boys are going pale. / The boys do go pa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35"/>
          <p:cNvSpPr/>
          <p:nvPr/>
        </p:nvSpPr>
        <p:spPr>
          <a:xfrm>
            <a:off x="137160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’a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gag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wins. / He is winning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does w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21932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us (achete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083"/>
          <p:cNvSpPr/>
          <p:nvPr/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Vous ache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(chan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81"/>
          <p:cNvSpPr/>
          <p:nvPr/>
        </p:nvSpPr>
        <p:spPr>
          <a:xfrm>
            <a:off x="137160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35"/>
          <p:cNvSpPr/>
          <p:nvPr/>
        </p:nvSpPr>
        <p:spPr>
          <a:xfrm>
            <a:off x="137160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Ifer</cp:lastModifiedBy>
  <dcterms:modified xsi:type="dcterms:W3CDTF">2010-09-05T19:31:29Z</dcterms:modified>
  <cp:revision>47</cp:revision>
  <dc:subject/>
  <dc:title>No Slide Title</dc:title>
</cp:coreProperties>
</file>